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92F5-BFE1-4211-85AF-194DBEB44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1CB7-961A-4B65-A052-3A0B4AAF2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logs.nature.com/vishal/2010/05/first_quiz_-_genome_special_quiz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great online quiz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959C-DB29-44EC-A3EF-8EE571E67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18B9-D429-48F9-BD94-FFF3AC9C7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ybg.org/science/dna-bank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B3D7-D817-4C31-B61D-BA8AA4523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is not from here, but information about the National DNA Data Bank can be found he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rcmp-grc.gc.ca/nddb-bndg/index-accueil-eng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A891-5027-46BD-95B3-B8B9CC3A2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volution.berkeley.edu/evolibrary/news/060301_cr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457C-1A66-43DC-8057-0B4F85EA2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A4ED-DC6B-4308-B5FE-F34C7ED72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csf.edu/news/2013/02/13535/gene-invaders-are-stymied-cells-genome-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8DB4-933A-4395-A3DF-6A7CC0D65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.cse.ohio-state.edu/MicroarrayDesigner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9C1C-B8BE-4A3B-82D3-290A9A4A5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multivu.prnewswire.com/mnr/procterandgamble/35537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1BD1-D9A6-4514-89D5-C1B213FD8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ww.msu.edu/~vanalst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7BA7-7E13-42F3-BB92-65675E5A7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ms.harvard.edu/news/puzzling-out-variability-human-genome-7-10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F3CE-EBC9-430C-98E1-37EBBC2CF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957D-5894-4AF8-82CE-56C00BB6E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ature.com/scitable/knowledge/library/comparative-genomics-132394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4439-2B90-4F1A-A341-362D0FE15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B5CB-5A3C-42EE-BE0B-02FEEB5B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6BC7-83BA-42AA-9A0E-21574C9FB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6B2E-6B78-44EF-9505-69DF49BBD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B75B-CFFC-46FD-879C-54DF1596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30B9-F901-4FB3-AAAC-C3C9DF82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CFD2-1A7B-499B-B117-C8094670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6BC0-98D0-4C58-B339-BAA9CB40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102E-613B-491C-A5DC-226749FA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6110-F595-4D5E-A069-7BD2C83B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C3B5-2028-4E07-AA13-A8602296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09BB-E42A-40B5-9F1F-1DCA9B26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70B3-0270-466A-BF50-A368A4976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ations &amp; Gen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05120" y="54097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2 &amp; 6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ng Gen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dentify differences in genes that cause disorders (cystic fibrosis, breast cancer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compare genomes of different organism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ctio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omi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study of what gen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heir fun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B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 DNA sequences from various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s in agriculture, conservation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DNAaliquots"/>
          <p:cNvPicPr/>
          <p:nvPr/>
        </p:nvPicPr>
        <p:blipFill>
          <a:blip r:embed="rId1"/>
          <a:stretch/>
        </p:blipFill>
        <p:spPr>
          <a:xfrm>
            <a:off x="4267080" y="238140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onal DNA Data B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ds DNA sequence of thousands of convicted crimi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PTA521ST_RCMP_MapleLeaf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Fingerpri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 of bands on a gel that is unique to each indivi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dnafingerprints"/>
          <p:cNvPicPr/>
          <p:nvPr/>
        </p:nvPicPr>
        <p:blipFill>
          <a:blip r:embed="rId1"/>
          <a:stretch/>
        </p:blipFill>
        <p:spPr>
          <a:xfrm>
            <a:off x="4552920" y="1676520"/>
            <a:ext cx="4000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gments of DNA that move within or between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vered by Barbara McClintock in the 1940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cause mu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mping Genes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29" descr="transposon_mobilization_1_1"/>
          <p:cNvPicPr/>
          <p:nvPr/>
        </p:nvPicPr>
        <p:blipFill>
          <a:blip r:embed="rId1"/>
          <a:stretch/>
        </p:blipFill>
        <p:spPr>
          <a:xfrm>
            <a:off x="685800" y="1989000"/>
            <a:ext cx="777240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arr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s groups of cells (e.g., normal vs. cancero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s which genes are mut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microarray"/>
          <p:cNvPicPr/>
          <p:nvPr/>
        </p:nvPicPr>
        <p:blipFill>
          <a:blip r:embed="rId1"/>
          <a:stretch/>
        </p:blipFill>
        <p:spPr>
          <a:xfrm>
            <a:off x="4343400" y="171468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35537-hi-Gene_Chip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5409720"/>
            <a:ext cx="5715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ome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dna"/>
          <p:cNvPicPr/>
          <p:nvPr/>
        </p:nvPicPr>
        <p:blipFill>
          <a:blip r:embed="rId1"/>
          <a:stretch/>
        </p:blipFill>
        <p:spPr>
          <a:xfrm>
            <a:off x="304920" y="611280"/>
            <a:ext cx="838188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Gen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uman Genome Project (HGP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1990 until 2000+ to sequence the 3 billion base pairs of human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ing D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kes up less than 2%…the rest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-coding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ng Gen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touchman_table1_ksm"/>
          <p:cNvPicPr/>
          <p:nvPr/>
        </p:nvPicPr>
        <p:blipFill>
          <a:blip r:embed="rId1"/>
          <a:stretch/>
        </p:blipFill>
        <p:spPr>
          <a:xfrm>
            <a:off x="685800" y="2212920"/>
            <a:ext cx="7772400" cy="36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9:57:33Z</dcterms:created>
  <dc:creator>rubina khan</dc:creator>
  <dc:description/>
  <dc:language>en-US</dc:language>
  <cp:lastModifiedBy>rubina khan</cp:lastModifiedBy>
  <dcterms:modified xsi:type="dcterms:W3CDTF">2015-12-03T14:47:08Z</dcterms:modified>
  <cp:revision>52</cp:revision>
  <dc:subject/>
  <dc:title>PowerPoint Presentation</dc:title>
</cp:coreProperties>
</file>